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F8D-2F4C-43E3-BD6E-1FCB9F72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896-900C-4844-903F-57BFB11F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D7B-4C93-4C81-A170-61D2B1C9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ECC-EACF-4FC2-B029-7DD602D2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FAE-F906-4982-BD15-CCB4660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E18-FF46-4A7B-9BCD-9E207ED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348-53D0-459E-B683-23632300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83E-8C6A-4924-B733-7B0BFA6C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EDF-C4DB-4E31-BDA1-8F33E0CB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DCE-5C0C-4E55-9BAD-F913311E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1EC-CA86-4276-875F-BD6F05E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36D-319B-4C92-9CAE-2B4EA4E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758-6A0D-4D56-9F43-BE19453A1E3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.br/imgres?imgurl=http://www.mestrevirtual.com/images/canal07_01.jpg&amp;imgrefurl=http://www.mestrevirtual.com/canal007_01.htm&amp;usg=__U21kPvzMw4z0jhR4ATGIFn_hQdc=&amp;h=374&amp;w=554&amp;sz=92&amp;hl=pt-BR&amp;start=15&amp;zoom=1&amp;um=1&amp;itbs=1&amp;tbnid=VcHweSIirq4oNM:&amp;tbnh=90&amp;tbnw=133&amp;prev=/search%3Fq%3Dn%25C3%25A3o%2Bao%2Bbullying%26um%3D1%26hl%3Dpt-BR%26sa%3DX%26ndsp%3D18%26biw%3D1366%26bih%3D568%26tbm%3Disch&amp;ei=LXV7Tp2cIovUgAe2q7iyAQ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54000"/>
            <a:ext cx="9612360" cy="722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acordo com Telma Vinha, doutora em Psicologia Educacional e professora da Faculdade de Educação da Universidade Estadual de Campinas (Unicamp), para ser dada como bullying, a agressão física ou moral precisa apresentar quatro características: a intenção do autor em ferir o alvo, a repetição da agressão, a presença de um público espectador e a concordância do alvo com relação à ofensa. “Quando o alvo supera o motivo da agressão, ele reage ou ignora, desmotivando a ação do autor”, explica a especi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192920" cy="423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84600" cy="2763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15080" y="3284640"/>
            <a:ext cx="4228920" cy="3371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3811320" cy="302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6280" cy="717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587760" cy="269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89320" cy="3141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492360" y="1484280"/>
            <a:ext cx="2738520" cy="20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354480" cy="2516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620640"/>
            <a:ext cx="3278160" cy="245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42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748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gas, ofensas, disseminação de comentários maldosos, agressões físicas e psicológicas, repres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scola pode ser palco de todos esses comportamentos, transformando a vida escolar de muitos alunos em algo desprazeroso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2894040" cy="217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4248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única maneira de combater esse tipo de prática é a cooperação por parte de todos os envolvidos: professores, funcionários, alunos e pais: “Todos devem estar de acordo com o compromisso de que o bullying não será mais toler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008600" cy="477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0282320" cy="771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68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968560" cy="22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08720" y="47628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987640" y="2421000"/>
            <a:ext cx="2820960" cy="211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DE SETEMBRO D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E.SENADOR FILINTO MU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41749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estratégias utilizadas devem ser definidas em cada escola, observando-se suas características e as de sua popula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5600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incentivo ao protagonismo dos alunos, permitindo sua participação nas decisões e no desenvolvimento do projeto, é uma garantia ainda maior de suces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76720" cy="429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8680" y="885960"/>
            <a:ext cx="4886640" cy="50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ipe Pedagógica Administ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ção Colegi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élio Custódio de Alme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osé Pereira das Vin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Coorden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inthya Maria St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5013360"/>
            <a:ext cx="5400720" cy="156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iretrizes do nosso trabalho fundamentam-se na informação, sensibilização, conscientização, mobilização, transformação e integração das famílias que passaram por experiências nesse sentido com crianças e jovens, ou que, inevitavelmente, poderão vir a passar. O foco dos nossos objetivos está direcionado em ações conjuntas com escolas, através de oficinas culturais, cursos, campeonatos e atividades educativas, que visam estimular as crianças e jovens contra esse tipo de violência que vem crescendo no nosso cotidi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4640"/>
            <a:ext cx="1266840" cy="857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54936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5805360"/>
            <a:ext cx="1266840" cy="85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24720" y="5805360"/>
            <a:ext cx="1266840" cy="85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so objetivo, também, visa a conscientização de um maior número possível de pessoas e, que nenhum ser humano vive isolado em uma ilha, pois todos nós dependemos uns dos outr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4640"/>
            <a:ext cx="1266840" cy="857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5300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476280"/>
            <a:ext cx="1266480" cy="857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7164360" y="5300640"/>
            <a:ext cx="1266840" cy="85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acordo com o dicionário Aulete de língua portuguesa, o termo bullying “compreende toda forma de agressão, intencional e repetida, sem motivo aparente, em que se faz uso do poder ou força para intimidar ou perseguir alguém, que pode ficar traumatizado, com baixa autoestima ou problemas de relacionamento”. O termo bullying tem origem na palavra ingles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ull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que significa valentão, brigão. É entendido como ameaça, tirania, opressão, intimidação, humilhação e malt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160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bullying sempre existiu, mas foi no final da década de 1970 que Dan Olweus, um professor da Universidade da Noruega, passou a estudar as tendências suicidas entre adolescentes e percebeu que a maioria desses jovens tinha sofrido algum tipo de ameaça e que, portanto, o bullying era um mal a se combater. Hoje, o fenômeno está mais popular, está mais visível com a influência dos meios eletrônicos, com a internet e com a tele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34016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6:23:15Z</dcterms:created>
  <dc:creator>Microsoft</dc:creator>
  <dc:description/>
  <dc:language>en-US</dc:language>
  <cp:lastModifiedBy>Microsoft</cp:lastModifiedBy>
  <dcterms:modified xsi:type="dcterms:W3CDTF">2011-09-22T19:31:54Z</dcterms:modified>
  <cp:revision>26</cp:revision>
  <dc:subject/>
  <dc:title>Slide 1</dc:title>
</cp:coreProperties>
</file>